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2E3A-76C8-4991-B317-01252E9D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6D5-C243-4281-808B-FB074FEE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3C8-FE7E-4BE0-9167-B42A6DFA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39A-9D9C-4D07-AD93-52D019DC3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55A8-3318-479F-B528-0D9E1A17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4734-AFB4-4774-A2A2-599B2C90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B232-BCCC-4071-9E54-94B0A37A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49A1-65AB-49C7-B183-3CC284DC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35F-5075-489F-A316-F63D362E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4D5-12FC-48EE-A1F3-9A473ADB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789-E66C-4935-9DEE-F8DA9E4C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87D-1F17-4ECD-A854-D172691A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2D3B-C809-4039-BAE0-490AB3DC15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76840"/>
            <a:ext cx="5562720" cy="208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562720" cy="208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5627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1:30:37Z</dcterms:created>
  <dc:creator>Joel Kalb</dc:creator>
  <dc:description/>
  <dc:language>en-US</dc:language>
  <cp:lastModifiedBy>Joel Kalb</cp:lastModifiedBy>
  <dcterms:modified xsi:type="dcterms:W3CDTF">2007-05-12T21:45:19Z</dcterms:modified>
  <cp:revision>1</cp:revision>
  <dc:subject/>
  <dc:title>PowerPoint Presentation</dc:title>
</cp:coreProperties>
</file>